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635-A466-4ECA-B133-277630AC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CDB-A306-4021-B93E-227FFD99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B32-F1B7-4A22-AB81-BE3FC748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68B-A118-40C8-BEA7-78A83668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52C4-2BEF-4E25-A0B5-3398A989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8C3A-DE13-4BAA-A92F-0BEF69ED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08AD-779A-4408-BBED-B2262ACA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2DCB-0538-4777-9ED6-22DEA0BB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1AB5-2190-426D-8A77-9FF280C4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8D7C-95F2-4DBC-805A-7311F0D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FB9B-DF7A-495F-851A-DE04DC88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381-2ACA-471F-B2BB-8B28F1D7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9984-4FAA-421F-AEE5-3CA44C41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1999-143B-4E66-8D95-CE63AD2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EC84-83D6-4B4E-9B9A-ED45238D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2BAE-DD39-4E6A-9589-416A36DB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E4B3-4909-4740-87A4-C164FDCB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223-0E7C-4762-BE52-09F144FF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DA4-F350-4F3F-88CE-E41FA6C9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003A-C557-47D7-B7C9-100080E7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57E-CFF7-4E06-8C8C-7497F01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933-CA13-4FF4-9F0F-36629955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C75-E6E5-4977-8B65-D7EFC847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A81-2E5E-4966-86DE-FCF92E5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D9EE-F4D7-4884-8E15-1B1714C7F33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E017-0938-43F0-882E-D5F5549A64F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ill There Was No Remedy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Divided Kingdom -2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rter 7,  Lesson 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ges 150-15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 Kings 23; 2 Chron. 34:29 – 36: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A82A-1248-4BD4-9F36-343F1CEE0B8E}" type="slidenum">
              <a:t>1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dah Lost God’s Boo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venant Renewed with Jehovah –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Kings 23:1-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could God’s people lose His book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can we truly find it aga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we demand the “reading” of God’s book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we pledge to read and obey it?  23:1-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F65-B811-41CA-A125-DB309C137349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osiah’s Reign in Judah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s fight against idolatry 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Kings 23:4-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 the presence of idolatry from God’s ho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 the sympathizers of false religion from leadership posi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roy anything that honors false reli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 idolaters must not be honored, but sham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ember the prophecy made 300 years earlier - I Kings 13:2, 3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CF7-0715-4F44-8C12-81FAB9BA280F}" type="slidenum">
              <a:t>3</a:t>
            </a:fld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osiah’s Restorations</a:t>
            </a:r>
            <a:br>
              <a:rPr sz="4400"/>
            </a:b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2 Kings 23:21-23; 2 Chron. 35:1-19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tored the Passov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ark returned to it’s rightful pl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ing back into practice what has been neglec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k for the old paths – Jer. 6:1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 vital is this for today’s religious worl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A65-3EB4-4610-8651-81DCFB1E3596}" type="slidenum">
              <a:t>4</a:t>
            </a:fld>
          </a:p>
        </p:txBody>
      </p:sp>
    </p:spTree>
  </p:cSld>
  <p:transition spd="med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ical No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yria is weakening in pow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bylonians are becoming strong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bopolassar, a Chaldean, establishing power in Babyl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gypt (Pharaoh Necho) chose to help Assyria, fearing the rising Babylonia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bylonians defeated Assyria in 612 B.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C32-E0E0-4D7A-A5BB-9977ACCD3337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osiah’s Death – </a:t>
            </a:r>
            <a:br>
              <a:rPr sz="4400"/>
            </a:b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2 Kings 23:29-30; 2 Chron. 35:20-27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cho claimed God sent him to help Assyr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osiah did not want Egypt to help Assyr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guised himself but was shot in battle by Egyptian arch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died and was buried in Jerusal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ime frame:  609 B.C. – 4 years before Judah’s f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636-42EF-4EBD-866B-2618948780EE}" type="slidenum">
              <a:t>6</a:t>
            </a:fld>
          </a:p>
        </p:txBody>
      </p:sp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ehoahaz (Shallum)</a:t>
            </a:r>
            <a:br>
              <a:rPr sz="3600"/>
            </a:b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2 Kings 23:30-34; 2 Chron. 36:1-4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igned 3 months (wicke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araoh Necho imprisoned Jehoaha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 was banished to Egypt, never to see Judah again, and died there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Also, Jer. 22:10-12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ced Judah to pay large tribu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alled Eliakim (Jehoiakim) to reign in the place of Jehoaha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ehoiakim and Jehoahaz were broth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68E-A929-4A78-9DA5-A266706F4626}" type="slidenum">
              <a:t>7</a:t>
            </a:fld>
          </a:p>
        </p:txBody>
      </p: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8:59:44Z</dcterms:created>
  <dc:creator> Tab Vines</dc:creator>
  <dc:description/>
  <dc:language>en-US</dc:language>
  <cp:lastModifiedBy>Frank D Vines</cp:lastModifiedBy>
  <dcterms:modified xsi:type="dcterms:W3CDTF">2006-03-12T14:10:31Z</dcterms:modified>
  <cp:revision>9</cp:revision>
  <dc:subject/>
  <dc:title>Till There Was No Remedy Divided Kingdom -2</dc:title>
</cp:coreProperties>
</file>